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0A12-5FFE-4461-ACDA-2C559ED77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D4F8-C123-4440-84B1-DE3B2205D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66F9-47F2-419E-A7E8-311F0E277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BA8C-16EE-477C-BDED-46A9F4B45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BFAB-6959-470B-9B3C-61E6D2D26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5452-731C-48AE-97DC-02B8C7271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6F45-C595-40F0-B60F-D91A4A1EE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ABC9-8829-44AC-B41D-B8DB23AF6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2FF4-FD69-4AF0-862C-AF06F59B5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F8ED-E532-411B-8D57-70F6C743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C9E3-8662-4E90-BCC8-FEA4738F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62B5-6A4E-47C0-BF5A-2BA582F9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EF3A5-AFB4-44BB-AF08-245445F76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4T07:41:36Z</dcterms:created>
  <dc:creator>Administrator</dc:creator>
  <dc:description/>
  <dc:language>en-US</dc:language>
  <cp:lastModifiedBy/>
  <dcterms:modified xsi:type="dcterms:W3CDTF">2015-07-24T07:55:38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